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58C84-B2C6-4522-93EC-746E671C2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1B749-7CD8-4999-B4A7-E5BD3FF26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B70A5-DD04-41D6-A7B0-41183CA7F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4F356-FB20-4935-ACF3-6988C6CC4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24E42-9304-4A4B-AA2A-2C81DA817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2DC06-2782-478C-967A-AFED83867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2B139-CD37-48ED-AB96-EA4C1BC77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1CA40-2197-4284-8508-E72111372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09013-CC15-4311-B777-D053B0654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4DC02-BC80-4007-9AE8-74E074C1C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9CAF6-F342-44E9-AF64-DB3BC2BEC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AFF82-BAE2-4C37-BADF-6FBF22B80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9D9D6-EB25-403A-87A8-05E75EAE22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3780000" y="1628640"/>
            <a:ext cx="757080" cy="755640"/>
            <a:chOff x="3780000" y="1628640"/>
            <a:chExt cx="757080" cy="755640"/>
          </a:xfrm>
        </p:grpSpPr>
        <p:sp>
          <p:nvSpPr>
            <p:cNvPr id="43" name=""/>
            <p:cNvSpPr/>
            <p:nvPr/>
          </p:nvSpPr>
          <p:spPr>
            <a:xfrm>
              <a:off x="3780000" y="2210760"/>
              <a:ext cx="757080" cy="173520"/>
            </a:xfrm>
            <a:custGeom>
              <a:avLst/>
              <a:gdLst/>
              <a:ahLst/>
              <a:rect l="l" t="t" r="r" b="b"/>
              <a:pathLst>
                <a:path w="3777" h="867">
                  <a:moveTo>
                    <a:pt x="0" y="629"/>
                  </a:moveTo>
                  <a:cubicBezTo>
                    <a:pt x="335" y="810"/>
                    <a:pt x="1699" y="867"/>
                    <a:pt x="2328" y="762"/>
                  </a:cubicBezTo>
                  <a:cubicBezTo>
                    <a:pt x="2957" y="657"/>
                    <a:pt x="3514" y="338"/>
                    <a:pt x="3777" y="0"/>
                  </a:cubicBezTo>
                  <a:cubicBezTo>
                    <a:pt x="1977" y="125"/>
                    <a:pt x="1398" y="116"/>
                    <a:pt x="457" y="89"/>
                  </a:cubicBezTo>
                  <a:cubicBezTo>
                    <a:pt x="449" y="108"/>
                    <a:pt x="14" y="590"/>
                    <a:pt x="0" y="629"/>
                  </a:cubicBezTo>
                  <a:close/>
                </a:path>
              </a:pathLst>
            </a:custGeom>
            <a:gradFill rotWithShape="0">
              <a:gsLst>
                <a:gs pos="0">
                  <a:srgbClr val="0099ff"/>
                </a:gs>
                <a:gs pos="100000">
                  <a:srgbClr val="0066ff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912480" y="1628640"/>
              <a:ext cx="358200" cy="541440"/>
            </a:xfrm>
            <a:custGeom>
              <a:avLst/>
              <a:gdLst/>
              <a:ahLst/>
              <a:rect l="l" t="t" r="r" b="b"/>
              <a:pathLst>
                <a:path w="1788" h="2702">
                  <a:moveTo>
                    <a:pt x="1714" y="2702"/>
                  </a:moveTo>
                  <a:lnTo>
                    <a:pt x="1788" y="0"/>
                  </a:lnTo>
                  <a:lnTo>
                    <a:pt x="0" y="2699"/>
                  </a:lnTo>
                  <a:lnTo>
                    <a:pt x="1714" y="2702"/>
                  </a:lnTo>
                  <a:close/>
                </a:path>
              </a:pathLst>
            </a:custGeom>
            <a:gradFill rotWithShape="0">
              <a:gsLst>
                <a:gs pos="0">
                  <a:srgbClr val="ffff00"/>
                </a:gs>
                <a:gs pos="100000">
                  <a:srgbClr val="ff9900"/>
                </a:gs>
              </a:gsLst>
              <a:lin ang="108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098240" y="1672200"/>
              <a:ext cx="368280" cy="557640"/>
            </a:xfrm>
            <a:custGeom>
              <a:avLst/>
              <a:gdLst/>
              <a:ahLst/>
              <a:rect l="l" t="t" r="r" b="b"/>
              <a:pathLst>
                <a:path w="1838" h="2753">
                  <a:moveTo>
                    <a:pt x="923" y="0"/>
                  </a:moveTo>
                  <a:cubicBezTo>
                    <a:pt x="1825" y="1093"/>
                    <a:pt x="1838" y="2177"/>
                    <a:pt x="1431" y="2551"/>
                  </a:cubicBezTo>
                  <a:cubicBezTo>
                    <a:pt x="1101" y="2694"/>
                    <a:pt x="372" y="2753"/>
                    <a:pt x="0" y="2684"/>
                  </a:cubicBezTo>
                  <a:cubicBezTo>
                    <a:pt x="1001" y="1811"/>
                    <a:pt x="1206" y="1093"/>
                    <a:pt x="923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4d0808"/>
                </a:gs>
                <a:gs pos="100000">
                  <a:srgbClr val="fff200">
                    <a:alpha val="78039"/>
                  </a:srgbClr>
                </a:gs>
              </a:gsLst>
              <a:lin ang="135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2.59259E-006 C -0.00174 0.00116 -0.00399 0.00185 -0.00538 0.0037 C -0.00694 0.00556 -0.0066 0.00949 -0.00816 0.01111 C -0.01146 0.01458 -0.01563 0.01597 -0.01927 0.01852 C -0.02153 0.02014 -0.02257 0.02407 -0.02483 0.02593 C -0.0283 0.02894 -0.03594 0.03333 -0.03594 0.03333 C -0.03681 0.03588 -0.03715 0.03912 -0.03872 0.04074 C -0.04583 0.04838 -0.05816 0.0537 -0.06649 0.05926 C -0.07014 0.06181 -0.07396 0.06412 -0.0776 0.06667 C -0.07951 0.06782 -0.08316 0.07037 -0.08316 0.07037 C -0.10521 0.06806 -0.12587 0.06528 -0.14722 0.05926 C -0.16997 0.05278 -0.16441 0.05532 -0.18038 0.04444 C -0.18403 0.0419 -0.19167 0.03704 -0.19167 0.03704 C -0.19583 0.02593 -0.20313 0.02384 -0.21094 0.01852 C -0.21319 0.0169 -0.21441 0.01319 -0.21649 0.01111 C -0.21823 0.00949 -0.22066 0.00926 -0.22222 0.00741 C -0.23038 -0.00185 -0.23472 -0.01227 -0.24427 -0.01852 C -0.24931 -0.03218 -0.24566 -0.02407 -0.25816 -0.04074 C -0.25955 -0.04259 -0.25955 -0.0463 -0.26094 -0.04815 C -0.26233 -0.05 -0.26458 -0.05069 -0.26649 -0.05185 C -0.27153 -0.06551 -0.26788 -0.05741 -0.28038 -0.07407 C -0.28194 -0.07593 -0.28194 -0.07963 -0.28333 -0.08148 C -0.28628 -0.08565 -0.29601 -0.09259 -0.29983 -0.0963 C -0.30712 -0.10347 -0.30295 -0.10394 -0.31111 -0.10741 C -0.32083 -0.11181 -0.3316 -0.11296 -0.34149 -0.11481 C -0.36667 -0.11227 -0.38837 -0.11134 -0.41094 -0.0963 C -0.42326 -0.06343 -0.41458 -0.00255 -0.41094 0.03333 C -0.40938 0.04815 -0.40938 0.05648 -0.39983 0.06296 C -0.39514 0.07523 -0.39896 0.06921 -0.38594 0.07778 C -0.37014 0.08843 -0.35313 0.09306 -0.33594 0.1 C -0.31823 0.10718 -0.3026 0.11875 -0.28594 0.12963 C -0.27969 0.1338 -0.26858 0.13796 -0.26372 0.14444 C -0.25833 0.15162 -0.2592 0.15208 -0.2526 0.15556 C -0.23837 0.16319 -0.22309 0.16644 -0.20816 0.17037 C -0.19028 0.18241 -0.21823 0.16412 -0.19427 0.17778 C -0.17917 0.18634 -0.16476 0.19769 -0.15 0.20741 C -0.14253 0.21227 -0.13316 0.22222 -0.12483 0.22222 E">
                                      <p:cBhvr>
                                        <p:cTn id="6" dur="3000" fill="hold"/>
                                        <p:tgtEl>
                                          <p:spTgt spid="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0.12136 0.23357 C -0.13768 0.22269 -0.15383 0.22014 -0.17136 0.21505 C -0.19167 0.20903 -0.21216 0.20325 -0.23247 0.19653 C -0.25157 0.19792 -0.27831 0.1963 -0.29914 0.20394 C -0.30487 0.20602 -0.3106 0.20788 -0.31581 0.21135 C -0.31945 0.21389 -0.32327 0.21621 -0.32692 0.21875 C -0.32883 0.21991 -0.33247 0.22246 -0.33247 0.22246 C -0.33334 0.225 -0.33386 0.22801 -0.33525 0.22987 C -0.33664 0.23172 -0.33959 0.23149 -0.34081 0.23357 C -0.34341 0.23797 -0.34445 0.24352 -0.34636 0.24838 C -0.34723 0.25093 -0.34914 0.25579 -0.34914 0.25579 C -0.34827 0.29538 -0.34792 0.33496 -0.34636 0.37431 C -0.34619 0.37987 -0.33785 0.41968 -0.33525 0.42246 C -0.32987 0.42825 -0.31962 0.43288 -0.31303 0.43727 C -0.28004 0.45926 -0.2415 0.46829 -0.20469 0.47061 C -0.17414 0.47246 -0.14358 0.47315 -0.11303 0.47431 C -0.09445 0.47848 -0.07605 0.48426 -0.05747 0.48913 C -0.04792 0.49167 -0.03907 0.49746 -0.02969 0.50024 C -0.01876 0.50348 -0.00956 0.5044 0.00086 0.51135 C 0.00451 0.51389 0.00833 0.51621 0.01197 0.51875 C 0.01388 0.51991 0.01753 0.52246 0.01753 0.52246 C 0.0184 0.525 0.01874 0.52825 0.02013 0.52987 C 0.0236 0.53334 0.03124 0.53727 0.03124 0.53727 C 0.03784 0.55463 0.03315 0.54954 0.04235 0.55579 C 0.04982 0.57547 0.03975 0.55209 0.05086 0.5669 C 0.05225 0.56875 0.0519 0.57269 0.05347 0.57431 C 0.05347 0.57431 0.06753 0.58357 0.07031 0.58542 C 0.08836 0.59746 0.10503 0.61135 0.12586 0.61135 E">
                                      <p:cBhvr>
                                        <p:cTn id="10" dur="3000" fill="hold"/>
                                        <p:tgtEl>
                                          <p:spTgt spid="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.12587 0.61134 C 0.14531 0.62708 0.16528 0.62639 0.18732 0.62963 C 0.2276 0.64259 0.2592 0.64838 0.30191 0.65208 C 0.33177 0.6581 0.32396 0.65972 0.36059 0.65208 C 0.37048 0.64976 0.37396 0.6456 0.38281 0.63842 C 0.38472 0.63726 0.38854 0.63426 0.38854 0.63449 C 0.39375 0.61713 0.4 0.60601 0.40521 0.58912 C 0.40607 0.58588 0.40712 0.58333 0.40798 0.58032 C 0.40885 0.57731 0.41076 0.57129 0.41076 0.57152 C 0.4151 0.53773 0.41111 0.50625 0.40798 0.47245 C 0.4059 0.45139 0.40486 0.42963 0.39965 0.40972 C 0.39566 0.39467 0.39219 0.37662 0.38281 0.36898 C 0.37639 0.34814 0.3809 0.35439 0.3717 0.34676 C 0.37083 0.34375 0.37048 0.33981 0.36892 0.3375 C 0.36024 0.32662 0.34566 0.31898 0.33541 0.31088 C 0.3151 0.29467 0.29305 0.28819 0.27118 0.27939 C 0.26701 0.27731 0.26354 0.27314 0.25989 0.27037 C 0.24757 0.26064 0.23125 0.25509 0.21805 0.24791 C 0.20521 0.2412 0.17621 0.23032 0.16771 0.21643 C 0.16406 0.21064 0.16024 0.20439 0.15659 0.19838 C 0.15347 0.19375 0.15278 0.18634 0.15087 0.18055 C 0.15 0.17777 0.14809 0.17152 0.14809 0.17199 C 0.15399 0.15254 0.15139 0.15208 0.16493 0.1449 C 0.17048 0.14166 0.18159 0.13634 0.18159 0.13657 C 0.20069 0.14097 0.21805 0.14884 0.2375 0.14884 E">
                                      <p:cBhvr>
                                        <p:cTn id="14" dur="5000" fill="hold"/>
                                        <p:tgtEl>
                                          <p:spTgt spid="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3T16:34:49Z</dcterms:created>
  <dc:creator> Oliver Mochmann</dc:creator>
  <dc:description/>
  <dc:language>en-US</dc:language>
  <cp:lastModifiedBy>Klingenberg</cp:lastModifiedBy>
  <dcterms:modified xsi:type="dcterms:W3CDTF">2011-06-19T20:14:24Z</dcterms:modified>
  <cp:revision>18</cp:revision>
  <dc:subject/>
  <dc:title>Folie 1</dc:title>
</cp:coreProperties>
</file>